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1CF7-0E2C-4C18-A79B-5B7261722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DFCF-2490-4031-B076-C191139C0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DC7-9E35-44C6-B8C1-DA3DF89B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45D-7C5A-4331-B959-B2AF48E2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296-0A0F-42D7-AAF3-929981EA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DCD-FCFC-4169-98F7-ED7F6A5B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5C6-E715-46D8-B55C-2C5C9F47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3C0-E36F-4679-AE9B-1167F9D4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D26-986A-4F63-9C68-9097991F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717-3DF5-4D87-8024-3CD41DA3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59A-3EAB-4912-B467-199B2FF8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E8B-0F36-4051-9303-25E938FC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3E0-4F0A-41E3-AECD-DB0B7145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47F-CDAF-4CBB-B8D5-6B49976E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140E-D8B4-45A4-9F26-7270BA750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lankWorldMap"/>
          <p:cNvPicPr/>
          <p:nvPr/>
        </p:nvPicPr>
        <p:blipFill>
          <a:blip r:embed="rId1"/>
          <a:stretch/>
        </p:blipFill>
        <p:spPr>
          <a:xfrm>
            <a:off x="0" y="1106640"/>
            <a:ext cx="9144000" cy="5751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04920" y="152280"/>
            <a:ext cx="845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arctic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th Americ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ro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ric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nt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arc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2:32:12Z</dcterms:created>
  <dc:creator>Owner</dc:creator>
  <dc:description/>
  <dc:language>en-US</dc:language>
  <cp:lastModifiedBy>Erik Jones</cp:lastModifiedBy>
  <cp:lastPrinted>2010-09-17T11:08:15Z</cp:lastPrinted>
  <dcterms:modified xsi:type="dcterms:W3CDTF">2010-09-17T11:11:34Z</dcterms:modified>
  <cp:revision>4</cp:revision>
  <dc:subject/>
  <dc:title>Slide 1</dc:title>
</cp:coreProperties>
</file>